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8EC80D-E100-42EE-9319-5C66460C1C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4F9F5717-B430-4FE3-997C-09FA166584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A5D5444C-9885-4AB0-9B2F-2B686433FF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F5FFEEB4-EAB0-4FF2-A0F1-0D1119C41B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47BED3EC-7921-4389-9662-40001662B1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66A510EC-46BB-4245-ACF9-D84D2785DB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B9DAFEFE-69D7-4C5A-80C1-FFD6BB444C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10EFD37F-9D10-4560-926E-814FBB6E5E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41371B6D-C346-4BD2-9EBB-5FBEC2DB47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E8FA8765-D455-4867-9B2E-FEE17B637D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69F4E64A-8EF1-41DF-8FAD-079A41FE8F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9EB8782C-1405-4A00-9D5B-7B576EA84B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5DEC4-CC1B-4982-B100-32FF480468D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05000"/>
            <a:ext cx="5976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十章</a:t>
            </a:r>
            <a:r>
              <a:rPr b="0" lang="en-US" sz="6000" spc="-1" strike="noStrike">
                <a:solidFill>
                  <a:srgbClr val="ffffff"/>
                </a:solidFill>
                <a:latin typeface="华文新魏"/>
              </a:rPr>
              <a:t>    </a:t>
            </a:r>
            <a:r>
              <a:rPr b="0" lang="zh-CN" sz="6000" spc="-1" strike="noStrike">
                <a:solidFill>
                  <a:srgbClr val="ffffff"/>
                </a:solidFill>
                <a:latin typeface="华文新魏"/>
              </a:rPr>
              <a:t>腹外疝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透光试验</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实验室检查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影像学检查</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性别与年龄</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既往史</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职业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其他 </a:t>
            </a:r>
            <a:endParaRPr b="0" lang="en-US" sz="24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1</a:t>
            </a:r>
            <a:r>
              <a:rPr b="0" lang="zh-CN" sz="2800" spc="-1" strike="noStrike">
                <a:solidFill>
                  <a:srgbClr val="046ca6"/>
                </a:solidFill>
                <a:latin typeface="华文新魏"/>
              </a:rPr>
              <a:t>岁以下的婴幼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年老体弱或伴有严重疾病而禁忌手术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嵌顿性疝发病时间在</a:t>
            </a:r>
            <a:r>
              <a:rPr b="0" lang="en-US" sz="2800" spc="-1" strike="noStrike">
                <a:solidFill>
                  <a:srgbClr val="046ca6"/>
                </a:solidFill>
                <a:latin typeface="华文新魏"/>
              </a:rPr>
              <a:t>3~4</a:t>
            </a:r>
            <a:r>
              <a:rPr b="0" lang="zh-CN" sz="2800" spc="-1" strike="noStrike">
                <a:solidFill>
                  <a:srgbClr val="046ca6"/>
                </a:solidFill>
                <a:latin typeface="华文新魏"/>
              </a:rPr>
              <a:t>小时内，可试行手法复位</a:t>
            </a:r>
            <a:endParaRPr b="0" lang="en-US" sz="28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传统的疝修补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无张力疝修补术（</a:t>
            </a:r>
            <a:r>
              <a:rPr b="0" lang="en-US" sz="2800" spc="-1" strike="noStrike">
                <a:solidFill>
                  <a:srgbClr val="046ca6"/>
                </a:solidFill>
                <a:latin typeface="华文新魏"/>
              </a:rPr>
              <a:t>tension-free hernioplasty</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经腹腔镜疝修补术（</a:t>
            </a:r>
            <a:r>
              <a:rPr b="0" lang="en-US" sz="2800" spc="-1" strike="noStrike">
                <a:solidFill>
                  <a:srgbClr val="046ca6"/>
                </a:solidFill>
                <a:latin typeface="华文新魏"/>
              </a:rPr>
              <a:t>laparoscopic inguinal herniorrhaphy</a:t>
            </a:r>
            <a:r>
              <a:rPr b="0" lang="zh-CN" sz="2800" spc="-1" strike="noStrike">
                <a:solidFill>
                  <a:srgbClr val="046ca6"/>
                </a:solidFill>
                <a:latin typeface="华文新魏"/>
              </a:rPr>
              <a:t>，</a:t>
            </a:r>
            <a:r>
              <a:rPr b="0" lang="en-US" sz="2800" spc="-1" strike="noStrike">
                <a:solidFill>
                  <a:srgbClr val="046ca6"/>
                </a:solidFill>
                <a:latin typeface="华文新魏"/>
              </a:rPr>
              <a:t>LIHR</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该患者诊断右侧腹股沟斜疝收入院，拟行右侧腹股沟无张力疝修补术。</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住院后应采取哪些护理措施？手术后会出现哪些并发症？</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a:t>
            </a:r>
            <a:r>
              <a:rPr b="0" lang="en-US" sz="3600" spc="-1" strike="noStrike">
                <a:solidFill>
                  <a:srgbClr val="046ca6"/>
                </a:solidFill>
                <a:latin typeface="华文新魏"/>
              </a:rPr>
              <a:t>  </a:t>
            </a:r>
            <a:r>
              <a:rPr b="0" lang="zh-CN" sz="3600" spc="-1" strike="noStrike">
                <a:solidFill>
                  <a:srgbClr val="046ca6"/>
                </a:solidFill>
                <a:latin typeface="华文新魏"/>
              </a:rPr>
              <a:t>与疝块嵌顿或绞窄、手术创伤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有关疾病的病因、预防和康复等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肠绞窄坏死、术后阴囊水肿、切口感染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卧床休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腹内压升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前准备</a:t>
            </a:r>
            <a:endParaRPr b="0" lang="en-US" sz="32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与活动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腹内压升高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阴囊水肿</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感染</a:t>
            </a:r>
            <a:endParaRPr b="0" lang="en-US" sz="32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者出院后应逐渐增加活动量，</a:t>
            </a:r>
            <a:r>
              <a:rPr b="0" lang="en-US" sz="2800" spc="-1" strike="noStrike">
                <a:solidFill>
                  <a:srgbClr val="046ca6"/>
                </a:solidFill>
                <a:latin typeface="华文新魏"/>
              </a:rPr>
              <a:t>3</a:t>
            </a:r>
            <a:r>
              <a:rPr b="0" lang="zh-CN" sz="2800" spc="-1" strike="noStrike">
                <a:solidFill>
                  <a:srgbClr val="046ca6"/>
                </a:solidFill>
                <a:latin typeface="华文新魏"/>
              </a:rPr>
              <a:t>个月内应避免重体力活动或提举重物</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调整饮食习惯，多饮水，多吃蔬菜、水果等，保持二便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和治疗腹内压增高的因素，如剧烈咳嗽、用力排便等</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院后如有不适或疝复发，应及早诊治</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其他腹外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腔内器官或组织通过股环、经股管向卵圆窝突出形成的疝，称为股疝（</a:t>
            </a:r>
            <a:r>
              <a:rPr b="0" lang="en-US" sz="4000" spc="-1" strike="noStrike">
                <a:solidFill>
                  <a:srgbClr val="046ca6"/>
                </a:solidFill>
                <a:latin typeface="华文新魏"/>
              </a:rPr>
              <a:t>femoral hernia</a:t>
            </a:r>
            <a:r>
              <a:rPr b="0" lang="zh-CN" sz="4000" spc="-1" strike="noStrike">
                <a:solidFill>
                  <a:srgbClr val="046ca6"/>
                </a:solidFill>
                <a:latin typeface="华文新魏"/>
              </a:rPr>
              <a:t>）。多见于</a:t>
            </a:r>
            <a:r>
              <a:rPr b="0" lang="en-US" sz="4000" spc="-1" strike="noStrike">
                <a:solidFill>
                  <a:srgbClr val="046ca6"/>
                </a:solidFill>
                <a:latin typeface="华文新魏"/>
              </a:rPr>
              <a:t>40</a:t>
            </a:r>
            <a:r>
              <a:rPr b="0" lang="zh-CN" sz="4000" spc="-1" strike="noStrike">
                <a:solidFill>
                  <a:srgbClr val="046ca6"/>
                </a:solidFill>
                <a:latin typeface="华文新魏"/>
              </a:rPr>
              <a:t>岁以上的妇女</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记：</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列举腹外疝形成的相关因素、组成和临床类型</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描述常见腹外疝的基本概念、临床表现和治疗原则</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理解：</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比较腹股沟斜疝、腹股沟直疝和股疝的临床特点</a:t>
            </a:r>
            <a:endParaRPr b="0" lang="en-US" sz="24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运用：</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运用所学的相关知识，预防和处理腹外疝手术后的并发症</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评估腹外疝患者并为其制订护理计划</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韧带下方卵圆窝处有一半球形突起，久站或咳嗽时感到胀痛，因疝囊外常有较多脂肪堆积，平卧回纳内容物后，疝块有时不能完全消失</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股疝</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性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育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确诊后应及时手术治疗</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切口疝（</a:t>
            </a:r>
            <a:r>
              <a:rPr b="0" lang="en-US" sz="3600" spc="-1" strike="noStrike">
                <a:solidFill>
                  <a:srgbClr val="046ca6"/>
                </a:solidFill>
                <a:latin typeface="华文新魏"/>
              </a:rPr>
              <a:t>incisional hernia</a:t>
            </a:r>
            <a:r>
              <a:rPr b="0" lang="zh-CN" sz="3600" spc="-1" strike="noStrike">
                <a:solidFill>
                  <a:srgbClr val="046ca6"/>
                </a:solidFill>
                <a:latin typeface="华文新魏"/>
              </a:rPr>
              <a:t>）是指腹腔内脏器或组织自腹壁手术切口突出形成的疝。在各种腹部切口中，最常见是经腹直肌切口，其次是正中切口和旁正中切口</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壁切口处逐渐膨隆，出现肿块，站立或用力时更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检查可见切口瘢痕处肿块，可大可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切口疝的疝环一般比较宽大，很少发生嵌顿</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切口疝</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则是手术修补</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腔内脏器或组织通过脐环突出形成的疝成为脐疝（</a:t>
            </a:r>
            <a:r>
              <a:rPr b="0" lang="en-US" sz="3600" spc="-1" strike="noStrike">
                <a:solidFill>
                  <a:srgbClr val="046ca6"/>
                </a:solidFill>
                <a:latin typeface="华文新魏"/>
              </a:rPr>
              <a:t>umbilical hernia</a:t>
            </a:r>
            <a:r>
              <a:rPr b="0" lang="zh-CN" sz="3600" spc="-1" strike="noStrike">
                <a:solidFill>
                  <a:srgbClr val="046ca6"/>
                </a:solidFill>
                <a:latin typeface="华文新魏"/>
              </a:rPr>
              <a:t>）。临床上分小儿脐疝和成人脐疝</a:t>
            </a:r>
            <a:r>
              <a:rPr b="0" lang="en-US" sz="3600" spc="-1" strike="noStrike">
                <a:solidFill>
                  <a:srgbClr val="046ca6"/>
                </a:solidFill>
                <a:latin typeface="华文新魏"/>
              </a:rPr>
              <a:t>2</a:t>
            </a:r>
            <a:r>
              <a:rPr b="0" lang="zh-CN" sz="3600" spc="-1" strike="noStrike">
                <a:solidFill>
                  <a:srgbClr val="046ca6"/>
                </a:solidFill>
                <a:latin typeface="华文新魏"/>
              </a:rPr>
              <a:t>种，以小儿脐疝多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先天性，多见。多因脐环闭锁不全，腹内压增高时发生。临床上表现为啼哭时出现脐部肿块，安静时肿块消失。疝囊颈一般不大，但极少发生嵌顿和绞窄，多属易复性疝。</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为后天性，少见，多见中年经产妇女。由于妊娠或腹水等腹内压长期增高下发生。由于疝环狭小，成人发生嵌顿或绞窄者较多。</a:t>
            </a:r>
            <a:endParaRPr b="0" lang="en-US" sz="24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脐疝</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小儿脐疝</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疗法：适用小于</a:t>
            </a:r>
            <a:r>
              <a:rPr b="0" lang="en-US" sz="3200" spc="-1" strike="noStrike">
                <a:solidFill>
                  <a:srgbClr val="046ca6"/>
                </a:solidFill>
                <a:latin typeface="华文新魏"/>
              </a:rPr>
              <a:t>2</a:t>
            </a:r>
            <a:r>
              <a:rPr b="0" lang="zh-CN" sz="3200" spc="-1" strike="noStrike">
                <a:solidFill>
                  <a:srgbClr val="046ca6"/>
                </a:solidFill>
                <a:latin typeface="华文新魏"/>
              </a:rPr>
              <a:t>岁的小儿</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疗法：适用</a:t>
            </a:r>
            <a:r>
              <a:rPr b="0" lang="en-US" sz="3200" spc="-1" strike="noStrike">
                <a:solidFill>
                  <a:srgbClr val="046ca6"/>
                </a:solidFill>
                <a:latin typeface="华文新魏"/>
              </a:rPr>
              <a:t>5</a:t>
            </a:r>
            <a:r>
              <a:rPr b="0" lang="zh-CN" sz="3200" spc="-1" strike="noStrike">
                <a:solidFill>
                  <a:srgbClr val="046ca6"/>
                </a:solidFill>
                <a:latin typeface="华文新魏"/>
              </a:rPr>
              <a:t>岁以上或是大于</a:t>
            </a:r>
            <a:r>
              <a:rPr b="0" lang="en-US" sz="3200" spc="-1" strike="noStrike">
                <a:solidFill>
                  <a:srgbClr val="046ca6"/>
                </a:solidFill>
                <a:latin typeface="华文新魏"/>
              </a:rPr>
              <a:t>2</a:t>
            </a:r>
            <a:r>
              <a:rPr b="0" lang="zh-CN" sz="3200" spc="-1" strike="noStrike">
                <a:solidFill>
                  <a:srgbClr val="046ca6"/>
                </a:solidFill>
                <a:latin typeface="华文新魏"/>
              </a:rPr>
              <a:t>岁，脐环直径大于</a:t>
            </a:r>
            <a:r>
              <a:rPr b="0" lang="en-US" sz="3200" spc="-1" strike="noStrike">
                <a:solidFill>
                  <a:srgbClr val="046ca6"/>
                </a:solidFill>
                <a:latin typeface="华文新魏"/>
              </a:rPr>
              <a:t>1.5cm</a:t>
            </a:r>
            <a:r>
              <a:rPr b="0" lang="zh-CN" sz="3200" spc="-1" strike="noStrike">
                <a:solidFill>
                  <a:srgbClr val="046ca6"/>
                </a:solidFill>
                <a:latin typeface="华文新魏"/>
              </a:rPr>
              <a:t>的儿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成人脐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采取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1"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r>
              <a:rPr b="0" lang="en-US" sz="3600" spc="-1" strike="noStrike">
                <a:solidFill>
                  <a:srgbClr val="046ca6"/>
                </a:solidFill>
                <a:latin typeface="华文新魏"/>
              </a:rPr>
              <a:t>  </a:t>
            </a:r>
            <a:r>
              <a:rPr b="0" lang="zh-CN" sz="3600" spc="-1" strike="noStrike">
                <a:solidFill>
                  <a:srgbClr val="046ca6"/>
                </a:solidFill>
                <a:latin typeface="华文新魏"/>
              </a:rPr>
              <a:t>腹壁强度降低，腹内压增高</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r>
              <a:rPr b="0" lang="en-US" sz="3600" spc="-1" strike="noStrike">
                <a:solidFill>
                  <a:srgbClr val="046ca6"/>
                </a:solidFill>
                <a:latin typeface="华文新魏"/>
              </a:rPr>
              <a:t>  ①</a:t>
            </a:r>
            <a:r>
              <a:rPr b="0" lang="zh-CN" sz="3600" spc="-1" strike="noStrike">
                <a:solidFill>
                  <a:srgbClr val="046ca6"/>
                </a:solidFill>
                <a:latin typeface="华文新魏"/>
              </a:rPr>
              <a:t>斜疝：腹股沟区肿块呈梨形，可进入阴囊，回纳肿块压迫深环后不会突出，多见儿童及成年人。</a:t>
            </a:r>
            <a:r>
              <a:rPr b="0" lang="en-US" sz="3600" spc="-1" strike="noStrike">
                <a:solidFill>
                  <a:srgbClr val="046ca6"/>
                </a:solidFill>
                <a:latin typeface="华文新魏"/>
              </a:rPr>
              <a:t>②</a:t>
            </a:r>
            <a:r>
              <a:rPr b="0" lang="zh-CN" sz="3600" spc="-1" strike="noStrike">
                <a:solidFill>
                  <a:srgbClr val="046ca6"/>
                </a:solidFill>
                <a:latin typeface="华文新魏"/>
              </a:rPr>
              <a:t>直疝：腹股沟区肿块呈球形，不进入阴囊，容易回纳，多见老年人。</a:t>
            </a:r>
            <a:r>
              <a:rPr b="0" lang="en-US" sz="3600" spc="-1" strike="noStrike">
                <a:solidFill>
                  <a:srgbClr val="046ca6"/>
                </a:solidFill>
                <a:latin typeface="华文新魏"/>
              </a:rPr>
              <a:t>③</a:t>
            </a:r>
            <a:r>
              <a:rPr b="0" lang="zh-CN" sz="3600" spc="-1" strike="noStrike">
                <a:solidFill>
                  <a:srgbClr val="046ca6"/>
                </a:solidFill>
                <a:latin typeface="华文新魏"/>
              </a:rPr>
              <a:t>股疝：腹股沟韧带下方卵圆窝处半球形肿块，肿块较小，不易回纳，最易嵌顿，多见</a:t>
            </a:r>
            <a:r>
              <a:rPr b="0" lang="en-US" sz="3600" spc="-1" strike="noStrike">
                <a:solidFill>
                  <a:srgbClr val="046ca6"/>
                </a:solidFill>
                <a:latin typeface="华文新魏"/>
              </a:rPr>
              <a:t>40</a:t>
            </a:r>
            <a:r>
              <a:rPr b="0" lang="zh-CN" sz="3600" spc="-1" strike="noStrike">
                <a:solidFill>
                  <a:srgbClr val="046ca6"/>
                </a:solidFill>
                <a:latin typeface="华文新魏"/>
              </a:rPr>
              <a:t>岁以上妇女</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18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r>
              <a:rPr b="0" lang="en-US" sz="3600" spc="-1" strike="noStrike">
                <a:solidFill>
                  <a:srgbClr val="046ca6"/>
                </a:solidFill>
                <a:latin typeface="华文新魏"/>
              </a:rPr>
              <a:t>  </a:t>
            </a:r>
            <a:r>
              <a:rPr b="0" lang="zh-CN" sz="3600" spc="-1" strike="noStrike">
                <a:solidFill>
                  <a:srgbClr val="046ca6"/>
                </a:solidFill>
                <a:latin typeface="华文新魏"/>
              </a:rPr>
              <a:t>手术治疗为主，疝囊高位结扎或修补术。</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a:t>
            </a:r>
            <a:r>
              <a:rPr b="0" lang="en-US" sz="3600" spc="-1" strike="noStrike">
                <a:solidFill>
                  <a:srgbClr val="046ca6"/>
                </a:solidFill>
                <a:latin typeface="华文新魏"/>
              </a:rPr>
              <a:t>  </a:t>
            </a:r>
            <a:r>
              <a:rPr b="0" lang="zh-CN" sz="3600" spc="-1" strike="noStrike">
                <a:solidFill>
                  <a:srgbClr val="046ca6"/>
                </a:solidFill>
                <a:latin typeface="华文新魏"/>
              </a:rPr>
              <a:t>术前防治腹内压增高，警惕发生疝嵌顿，做好术前准备；术后继续防治腹内压增高，做好并发症的观察与护理。</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十章</a:t>
            </a:r>
            <a:r>
              <a:rPr b="0" lang="en-US" sz="3600" spc="-1" strike="noStrike">
                <a:solidFill>
                  <a:srgbClr val="ffffff"/>
                </a:solidFill>
                <a:latin typeface="华文新魏"/>
              </a:rPr>
              <a:t>    </a:t>
            </a:r>
            <a:r>
              <a:rPr b="0" lang="zh-CN" sz="3600" spc="-1" strike="noStrike">
                <a:solidFill>
                  <a:srgbClr val="ffffff"/>
                </a:solidFill>
                <a:latin typeface="华文新魏"/>
              </a:rPr>
              <a:t>腹外疝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腹外疝（</a:t>
            </a:r>
            <a:r>
              <a:rPr b="0" lang="en-US" sz="3600" spc="-1" strike="noStrike">
                <a:solidFill>
                  <a:srgbClr val="046ca6"/>
                </a:solidFill>
                <a:latin typeface="华文新魏"/>
              </a:rPr>
              <a:t>abdominal external hernia</a:t>
            </a:r>
            <a:r>
              <a:rPr b="0" lang="zh-CN" sz="3600" spc="-1" strike="noStrike">
                <a:solidFill>
                  <a:srgbClr val="046ca6"/>
                </a:solidFill>
                <a:latin typeface="华文新魏"/>
              </a:rPr>
              <a:t>）是腹腔内的脏器或组织连同壁腹膜，经腹壁薄弱点或孔隙，向体表突出所形成。常见腹外疝有腹股沟疝、股疝、脐疝、切口疝等</a:t>
            </a: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8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52</a:t>
            </a:r>
            <a:r>
              <a:rPr b="0" lang="zh-CN" sz="2800" spc="-1" strike="noStrike">
                <a:solidFill>
                  <a:srgbClr val="046ca6"/>
                </a:solidFill>
                <a:latin typeface="华文新魏"/>
              </a:rPr>
              <a:t>岁，</a:t>
            </a:r>
            <a:r>
              <a:rPr b="0" lang="en-US" sz="2800" spc="-1" strike="noStrike">
                <a:solidFill>
                  <a:srgbClr val="046ca6"/>
                </a:solidFill>
                <a:latin typeface="华文新魏"/>
              </a:rPr>
              <a:t>8</a:t>
            </a:r>
            <a:r>
              <a:rPr b="0" lang="zh-CN" sz="2800" spc="-1" strike="noStrike">
                <a:solidFill>
                  <a:srgbClr val="046ca6"/>
                </a:solidFill>
                <a:latin typeface="华文新魏"/>
              </a:rPr>
              <a:t>年前发现右侧腹股沟区肿块，约</a:t>
            </a:r>
            <a:r>
              <a:rPr b="0" lang="en-US" sz="2800" spc="-1" strike="noStrike">
                <a:solidFill>
                  <a:srgbClr val="046ca6"/>
                </a:solidFill>
                <a:latin typeface="华文新魏"/>
              </a:rPr>
              <a:t>3cm×2cm</a:t>
            </a:r>
            <a:r>
              <a:rPr b="0" lang="zh-CN" sz="2800" spc="-1" strike="noStrike">
                <a:solidFill>
                  <a:srgbClr val="046ca6"/>
                </a:solidFill>
                <a:latin typeface="华文新魏"/>
              </a:rPr>
              <a:t>大小，近</a:t>
            </a:r>
            <a:r>
              <a:rPr b="0" lang="en-US" sz="2800" spc="-1" strike="noStrike">
                <a:solidFill>
                  <a:srgbClr val="046ca6"/>
                </a:solidFill>
                <a:latin typeface="华文新魏"/>
              </a:rPr>
              <a:t>2</a:t>
            </a:r>
            <a:r>
              <a:rPr b="0" lang="zh-CN" sz="2800" spc="-1" strike="noStrike">
                <a:solidFill>
                  <a:srgbClr val="046ca6"/>
                </a:solidFill>
                <a:latin typeface="华文新魏"/>
              </a:rPr>
              <a:t>年来肿块逐渐增大至</a:t>
            </a:r>
            <a:r>
              <a:rPr b="0" lang="en-US" sz="2800" spc="-1" strike="noStrike">
                <a:solidFill>
                  <a:srgbClr val="046ca6"/>
                </a:solidFill>
                <a:latin typeface="华文新魏"/>
              </a:rPr>
              <a:t>8cm×5cm</a:t>
            </a:r>
            <a:r>
              <a:rPr b="0" lang="zh-CN" sz="2800" spc="-1" strike="noStrike">
                <a:solidFill>
                  <a:srgbClr val="046ca6"/>
                </a:solidFill>
                <a:latin typeface="华文新魏"/>
              </a:rPr>
              <a:t>，可进入阴囊。肿块突出时感下腹坠胀，隐痛。</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右腹股沟区肿块</a:t>
            </a:r>
            <a:r>
              <a:rPr b="0" lang="en-US" sz="2800" spc="-1" strike="noStrike">
                <a:solidFill>
                  <a:srgbClr val="046ca6"/>
                </a:solidFill>
                <a:latin typeface="华文新魏"/>
              </a:rPr>
              <a:t>8cm×5cm</a:t>
            </a:r>
            <a:r>
              <a:rPr b="0" lang="zh-CN" sz="2800" spc="-1" strike="noStrike">
                <a:solidFill>
                  <a:srgbClr val="046ca6"/>
                </a:solidFill>
                <a:latin typeface="华文新魏"/>
              </a:rPr>
              <a:t>大小，质软，无压痛，回纳后压迫内环，不再出现。</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患者为搬运工。有便秘</a:t>
            </a:r>
            <a:r>
              <a:rPr b="0" lang="en-US" sz="2800" spc="-1" strike="noStrike">
                <a:solidFill>
                  <a:srgbClr val="046ca6"/>
                </a:solidFill>
                <a:latin typeface="华文新魏"/>
              </a:rPr>
              <a:t>10</a:t>
            </a:r>
            <a:r>
              <a:rPr b="0" lang="zh-CN" sz="2800" spc="-1" strike="noStrike">
                <a:solidFill>
                  <a:srgbClr val="046ca6"/>
                </a:solidFill>
                <a:latin typeface="华文新魏"/>
              </a:rPr>
              <a:t>余年，吸烟</a:t>
            </a:r>
            <a:r>
              <a:rPr b="0" lang="en-US" sz="2800" spc="-1" strike="noStrike">
                <a:solidFill>
                  <a:srgbClr val="046ca6"/>
                </a:solidFill>
                <a:latin typeface="华文新魏"/>
              </a:rPr>
              <a:t>30</a:t>
            </a:r>
            <a:r>
              <a:rPr b="0" lang="zh-CN" sz="2800" spc="-1" strike="noStrike">
                <a:solidFill>
                  <a:srgbClr val="046ca6"/>
                </a:solidFill>
                <a:latin typeface="华文新魏"/>
              </a:rPr>
              <a:t>余年。</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该患者最可能的诊断是什么？依据是什么？该患者拟行手术，目前存在哪些护理诊断</a:t>
            </a:r>
            <a:r>
              <a:rPr b="0" lang="en-US" sz="2800" spc="-1" strike="noStrike">
                <a:solidFill>
                  <a:srgbClr val="046ca6"/>
                </a:solidFill>
                <a:latin typeface="华文新魏"/>
              </a:rPr>
              <a:t>/</a:t>
            </a:r>
            <a:r>
              <a:rPr b="0" lang="zh-CN" sz="2800" spc="-1" strike="noStrike">
                <a:solidFill>
                  <a:srgbClr val="046ca6"/>
                </a:solidFill>
                <a:latin typeface="华文新魏"/>
              </a:rPr>
              <a:t>问题？应给予哪些护理措施？</a:t>
            </a:r>
            <a:endParaRPr b="0" lang="en-US" sz="2800" spc="-1" strike="noStrike">
              <a:solidFill>
                <a:srgbClr val="046ca6"/>
              </a:solidFill>
              <a:latin typeface="华文新魏"/>
            </a:endParaRPr>
          </a:p>
        </p:txBody>
      </p:sp>
      <p:sp>
        <p:nvSpPr>
          <p:cNvPr id="1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最可能的诊断是右腹股沟斜疝。依据主要根据患者的病史、相关症状和体征</a:t>
            </a:r>
            <a:r>
              <a:rPr b="0" lang="en-US" sz="2400" spc="-1" strike="noStrike">
                <a:solidFill>
                  <a:srgbClr val="046ca6"/>
                </a:solidFill>
                <a:latin typeface="华文新魏"/>
              </a:rPr>
              <a:t>①</a:t>
            </a:r>
            <a:r>
              <a:rPr b="0" lang="zh-CN" sz="2400" spc="-1" strike="noStrike">
                <a:solidFill>
                  <a:srgbClr val="046ca6"/>
                </a:solidFill>
                <a:latin typeface="华文新魏"/>
              </a:rPr>
              <a:t>便秘</a:t>
            </a:r>
            <a:r>
              <a:rPr b="0" lang="en-US" sz="2400" spc="-1" strike="noStrike">
                <a:solidFill>
                  <a:srgbClr val="046ca6"/>
                </a:solidFill>
                <a:latin typeface="华文新魏"/>
              </a:rPr>
              <a:t>10</a:t>
            </a:r>
            <a:r>
              <a:rPr b="0" lang="zh-CN" sz="2400" spc="-1" strike="noStrike">
                <a:solidFill>
                  <a:srgbClr val="046ca6"/>
                </a:solidFill>
                <a:latin typeface="华文新魏"/>
              </a:rPr>
              <a:t>余年、吸烟史</a:t>
            </a:r>
            <a:r>
              <a:rPr b="0" lang="en-US" sz="2400" spc="-1" strike="noStrike">
                <a:solidFill>
                  <a:srgbClr val="046ca6"/>
                </a:solidFill>
                <a:latin typeface="华文新魏"/>
              </a:rPr>
              <a:t>30</a:t>
            </a:r>
            <a:r>
              <a:rPr b="0" lang="zh-CN" sz="2400" spc="-1" strike="noStrike">
                <a:solidFill>
                  <a:srgbClr val="046ca6"/>
                </a:solidFill>
                <a:latin typeface="华文新魏"/>
              </a:rPr>
              <a:t>余年。</a:t>
            </a:r>
            <a:r>
              <a:rPr b="0" lang="en-US" sz="2400" spc="-1" strike="noStrike">
                <a:solidFill>
                  <a:srgbClr val="046ca6"/>
                </a:solidFill>
                <a:latin typeface="华文新魏"/>
              </a:rPr>
              <a:t>②</a:t>
            </a:r>
            <a:r>
              <a:rPr b="0" lang="zh-CN" sz="2400" spc="-1" strike="noStrike">
                <a:solidFill>
                  <a:srgbClr val="046ca6"/>
                </a:solidFill>
                <a:latin typeface="华文新魏"/>
              </a:rPr>
              <a:t>右腹股沟可复性肿块</a:t>
            </a:r>
            <a:r>
              <a:rPr b="0" lang="en-US" sz="2400" spc="-1" strike="noStrike">
                <a:solidFill>
                  <a:srgbClr val="046ca6"/>
                </a:solidFill>
                <a:latin typeface="华文新魏"/>
              </a:rPr>
              <a:t>8</a:t>
            </a:r>
            <a:r>
              <a:rPr b="0" lang="zh-CN" sz="2400" spc="-1" strike="noStrike">
                <a:solidFill>
                  <a:srgbClr val="046ca6"/>
                </a:solidFill>
                <a:latin typeface="华文新魏"/>
              </a:rPr>
              <a:t>年，可进入阴囊。</a:t>
            </a:r>
            <a:r>
              <a:rPr b="0" lang="en-US" sz="2400" spc="-1" strike="noStrike">
                <a:solidFill>
                  <a:srgbClr val="046ca6"/>
                </a:solidFill>
                <a:latin typeface="华文新魏"/>
              </a:rPr>
              <a:t>③</a:t>
            </a:r>
            <a:r>
              <a:rPr b="0" lang="zh-CN" sz="2400" spc="-1" strike="noStrike">
                <a:solidFill>
                  <a:srgbClr val="046ca6"/>
                </a:solidFill>
                <a:latin typeface="华文新魏"/>
              </a:rPr>
              <a:t>体检见右腹股沟区肿块，回纳后压迫内环，肿块不再出现。</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术前护理的重要内容是消除腹内压升高，预防术后并发症。患者有便秘、吸烟、从事体力工种等。存在</a:t>
            </a:r>
            <a:r>
              <a:rPr b="0" lang="en-US" sz="2400" spc="-1" strike="noStrike">
                <a:solidFill>
                  <a:srgbClr val="046ca6"/>
                </a:solidFill>
                <a:latin typeface="华文新魏"/>
              </a:rPr>
              <a:t>“</a:t>
            </a:r>
            <a:r>
              <a:rPr b="0" lang="zh-CN" sz="2400" spc="-1" strike="noStrike">
                <a:solidFill>
                  <a:srgbClr val="046ca6"/>
                </a:solidFill>
                <a:latin typeface="华文新魏"/>
              </a:rPr>
              <a:t>知识缺乏：缺乏预防腹内压升高的相关知识</a:t>
            </a:r>
            <a:r>
              <a:rPr b="0" lang="en-US" sz="2400" spc="-1" strike="noStrike">
                <a:solidFill>
                  <a:srgbClr val="046ca6"/>
                </a:solidFill>
                <a:latin typeface="华文新魏"/>
              </a:rPr>
              <a:t>”</a:t>
            </a:r>
            <a:r>
              <a:rPr b="0" lang="zh-CN" sz="2400" spc="-1" strike="noStrike">
                <a:solidFill>
                  <a:srgbClr val="046ca6"/>
                </a:solidFill>
                <a:latin typeface="华文新魏"/>
              </a:rPr>
              <a:t>；患者准备进行手术治疗，存在</a:t>
            </a:r>
            <a:r>
              <a:rPr b="0" lang="en-US" sz="2400" spc="-1" strike="noStrike">
                <a:solidFill>
                  <a:srgbClr val="046ca6"/>
                </a:solidFill>
                <a:latin typeface="华文新魏"/>
              </a:rPr>
              <a:t>“</a:t>
            </a:r>
            <a:r>
              <a:rPr b="0" lang="zh-CN" sz="2400" spc="-1" strike="noStrike">
                <a:solidFill>
                  <a:srgbClr val="046ca6"/>
                </a:solidFill>
                <a:latin typeface="华文新魏"/>
              </a:rPr>
              <a:t>潜在并发症：术后阴囊水肿、切口感染</a:t>
            </a:r>
            <a:r>
              <a:rPr b="0" lang="en-US" sz="2400" spc="-1" strike="noStrike">
                <a:solidFill>
                  <a:srgbClr val="046ca6"/>
                </a:solidFill>
                <a:latin typeface="华文新魏"/>
              </a:rPr>
              <a:t>”</a:t>
            </a:r>
            <a:r>
              <a:rPr b="0" lang="zh-CN" sz="2400" spc="-1" strike="noStrike">
                <a:solidFill>
                  <a:srgbClr val="046ca6"/>
                </a:solidFill>
                <a:latin typeface="华文新魏"/>
              </a:rPr>
              <a:t>。主要护理措施：为患者提供相关知识，预防与处理腹内压增高的因素如戒烟、通便、防止感冒等，皮肤准备时避免损伤皮肤。术后平卧，不提倡过早活动；保持伤口敷料的清洁干燥，必要时加压包扎，防止大小便污染，换药时无菌操作，预防阴囊水肿可用丁字带将阴囊托起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嵌顿性疝与绞窄性疝的区别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疝囊有无压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疝内容物能不能回纳</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是否有休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疝内容物有否血运障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是否有肠梗阻的表现</a:t>
            </a:r>
            <a:endParaRPr b="0" lang="en-US" sz="3600" spc="-1" strike="noStrike">
              <a:solidFill>
                <a:srgbClr val="046ca6"/>
              </a:solidFill>
              <a:latin typeface="华文新魏"/>
            </a:endParaRPr>
          </a:p>
        </p:txBody>
      </p:sp>
      <p:sp>
        <p:nvSpPr>
          <p:cNvPr id="1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2</a:t>
            </a:r>
            <a:r>
              <a:rPr b="0" lang="zh-CN" sz="3600" spc="-1" strike="noStrike">
                <a:solidFill>
                  <a:srgbClr val="046ca6"/>
                </a:solidFill>
                <a:latin typeface="华文新魏"/>
              </a:rPr>
              <a:t>．女性，</a:t>
            </a:r>
            <a:r>
              <a:rPr b="0" lang="en-US" sz="3600" spc="-1" strike="noStrike">
                <a:solidFill>
                  <a:srgbClr val="046ca6"/>
                </a:solidFill>
                <a:latin typeface="华文新魏"/>
              </a:rPr>
              <a:t>42</a:t>
            </a:r>
            <a:r>
              <a:rPr b="0" lang="zh-CN" sz="3600" spc="-1" strike="noStrike">
                <a:solidFill>
                  <a:srgbClr val="046ca6"/>
                </a:solidFill>
                <a:latin typeface="华文新魏"/>
              </a:rPr>
              <a:t>岁，右侧腹股沟卵圆窝处出现一半球形隆起物，回纳后压迫腹股沟深环，肿块仍可突出，最可能的诊断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a:t>
            </a:r>
            <a:r>
              <a:rPr b="0" lang="zh-CN" sz="3200" spc="-1" strike="noStrike">
                <a:solidFill>
                  <a:srgbClr val="046ca6"/>
                </a:solidFill>
                <a:latin typeface="华文新魏"/>
              </a:rPr>
              <a:t>．腹股沟直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腹壁切口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股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脐疝</a:t>
            </a:r>
            <a:endParaRPr b="0" lang="en-US" sz="3200" spc="-1" strike="noStrike">
              <a:solidFill>
                <a:srgbClr val="046ca6"/>
              </a:solidFill>
              <a:latin typeface="华文新魏"/>
            </a:endParaRPr>
          </a:p>
        </p:txBody>
      </p:sp>
      <p:sp>
        <p:nvSpPr>
          <p:cNvPr id="1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肠嵌顿性疝急诊术前准备中不妥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禁食禁水</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胃肠减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必要时灌肠</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备血，必要时输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200" spc="-1" strike="noStrike">
                <a:solidFill>
                  <a:srgbClr val="046ca6"/>
                </a:solidFill>
                <a:latin typeface="华文新魏"/>
              </a:rPr>
              <a:t>．输液，维持水电解质平衡</a:t>
            </a:r>
            <a:endParaRPr b="0" lang="en-US" sz="32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男性，</a:t>
            </a:r>
            <a:r>
              <a:rPr b="0" lang="en-US" sz="4000" spc="-1" strike="noStrike">
                <a:solidFill>
                  <a:srgbClr val="046ca6"/>
                </a:solidFill>
                <a:latin typeface="华文新魏"/>
              </a:rPr>
              <a:t>3</a:t>
            </a:r>
            <a:r>
              <a:rPr b="0" lang="zh-CN" sz="4000" spc="-1" strike="noStrike">
                <a:solidFill>
                  <a:srgbClr val="046ca6"/>
                </a:solidFill>
                <a:latin typeface="华文新魏"/>
              </a:rPr>
              <a:t>岁，被确诊为右腹股沟斜疝，首选的术式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Ferguson</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McVay</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assini</a:t>
            </a:r>
            <a:r>
              <a:rPr b="0" lang="zh-CN" sz="3600" spc="-1" strike="noStrike">
                <a:solidFill>
                  <a:srgbClr val="046ca6"/>
                </a:solidFill>
                <a:latin typeface="华文新魏"/>
              </a:rPr>
              <a:t>法</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单纯疝囊高位结扎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无张力疝修补术</a:t>
            </a:r>
            <a:endParaRPr b="0" lang="en-US" sz="36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发生腹部切口疝的最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腹壁肌被切断</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缝线滑脱</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切口感染</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切口过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缝合时强行拉拢创缘</a:t>
            </a:r>
            <a:endParaRPr b="0" lang="en-US" sz="36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D    2</a:t>
            </a:r>
            <a:r>
              <a:rPr b="0" lang="zh-CN" sz="4000" spc="-1" strike="noStrike">
                <a:solidFill>
                  <a:srgbClr val="046ca6"/>
                </a:solidFill>
                <a:latin typeface="华文新魏"/>
              </a:rPr>
              <a:t>．</a:t>
            </a:r>
            <a:r>
              <a:rPr b="0" lang="en-US" sz="4000" spc="-1" strike="noStrike">
                <a:solidFill>
                  <a:srgbClr val="046ca6"/>
                </a:solidFill>
                <a:latin typeface="华文新魏"/>
              </a:rPr>
              <a:t>D    3</a:t>
            </a:r>
            <a:r>
              <a:rPr b="0" lang="zh-CN" sz="4000" spc="-1" strike="noStrike">
                <a:solidFill>
                  <a:srgbClr val="046ca6"/>
                </a:solidFill>
                <a:latin typeface="华文新魏"/>
              </a:rPr>
              <a:t>．</a:t>
            </a:r>
            <a:r>
              <a:rPr b="0" lang="en-US" sz="4000" spc="-1" strike="noStrike">
                <a:solidFill>
                  <a:srgbClr val="046ca6"/>
                </a:solidFill>
                <a:latin typeface="华文新魏"/>
              </a:rPr>
              <a:t>C   4</a:t>
            </a:r>
            <a:r>
              <a:rPr b="0" lang="zh-CN" sz="4000" spc="-1" strike="noStrike">
                <a:solidFill>
                  <a:srgbClr val="046ca6"/>
                </a:solidFill>
                <a:latin typeface="华文新魏"/>
              </a:rPr>
              <a:t>．</a:t>
            </a:r>
            <a:r>
              <a:rPr b="0" lang="en-US" sz="4000" spc="-1" strike="noStrike">
                <a:solidFill>
                  <a:srgbClr val="046ca6"/>
                </a:solidFill>
                <a:latin typeface="华文新魏"/>
              </a:rPr>
              <a:t>D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腹股沟疝</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腹股沟疝（</a:t>
            </a:r>
            <a:r>
              <a:rPr b="0" lang="en-US" sz="4000" spc="-1" strike="noStrike">
                <a:solidFill>
                  <a:srgbClr val="046ca6"/>
                </a:solidFill>
                <a:latin typeface="华文新魏"/>
              </a:rPr>
              <a:t>inguinal hernia</a:t>
            </a:r>
            <a:r>
              <a:rPr b="0" lang="zh-CN" sz="4000" spc="-1" strike="noStrike">
                <a:solidFill>
                  <a:srgbClr val="046ca6"/>
                </a:solidFill>
                <a:latin typeface="华文新魏"/>
              </a:rPr>
              <a:t>）</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indirect inguinal hernia</a:t>
            </a:r>
            <a:r>
              <a:rPr b="0" lang="zh-CN" sz="3200" spc="-1" strike="noStrike">
                <a:solidFill>
                  <a:srgbClr val="046ca6"/>
                </a:solidFill>
                <a:latin typeface="华文新魏"/>
              </a:rPr>
              <a:t>）是指腹腔内的脏器或组织经腹壁下动脉外侧的内环（深环）、腹股沟管、外环（浅环）向体表突出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r>
              <a:rPr b="0" lang="en-US" sz="3200" spc="-1" strike="noStrike">
                <a:solidFill>
                  <a:srgbClr val="046ca6"/>
                </a:solidFill>
                <a:latin typeface="华文新魏"/>
              </a:rPr>
              <a:t>direct inguinal hernia</a:t>
            </a:r>
            <a:r>
              <a:rPr b="0" lang="zh-CN" sz="3200" spc="-1" strike="noStrike">
                <a:solidFill>
                  <a:srgbClr val="046ca6"/>
                </a:solidFill>
                <a:latin typeface="华文新魏"/>
              </a:rPr>
              <a:t>）是指腹腔内的脏器或组织经腹壁下动脉内侧的直疝三角向体表突出者。不进入阴囊，多发生于老年人</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61</a:t>
            </a:r>
            <a:r>
              <a:rPr b="0" lang="zh-CN" sz="3200" spc="-1" strike="noStrike">
                <a:solidFill>
                  <a:srgbClr val="046ca6"/>
                </a:solidFill>
                <a:latin typeface="华文新魏"/>
              </a:rPr>
              <a:t>岁，右侧腹股沟可复性肿块</a:t>
            </a:r>
            <a:r>
              <a:rPr b="0" lang="en-US" sz="3200" spc="-1" strike="noStrike">
                <a:solidFill>
                  <a:srgbClr val="046ca6"/>
                </a:solidFill>
                <a:latin typeface="华文新魏"/>
              </a:rPr>
              <a:t>10</a:t>
            </a:r>
            <a:r>
              <a:rPr b="0" lang="zh-CN" sz="3200" spc="-1" strike="noStrike">
                <a:solidFill>
                  <a:srgbClr val="046ca6"/>
                </a:solidFill>
                <a:latin typeface="华文新魏"/>
              </a:rPr>
              <a:t>年。</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右侧腹股沟有一肿块，约</a:t>
            </a:r>
            <a:r>
              <a:rPr b="0" lang="en-US" sz="3200" spc="-1" strike="noStrike">
                <a:solidFill>
                  <a:srgbClr val="046ca6"/>
                </a:solidFill>
                <a:latin typeface="华文新魏"/>
              </a:rPr>
              <a:t>8cm</a:t>
            </a:r>
            <a:r>
              <a:rPr b="0" lang="zh-CN" sz="3200" spc="-1" strike="noStrike">
                <a:solidFill>
                  <a:srgbClr val="046ca6"/>
                </a:solidFill>
                <a:latin typeface="华文新魏"/>
              </a:rPr>
              <a:t>×</a:t>
            </a:r>
            <a:r>
              <a:rPr b="0" lang="en-US" sz="3200" spc="-1" strike="noStrike">
                <a:solidFill>
                  <a:srgbClr val="046ca6"/>
                </a:solidFill>
                <a:latin typeface="华文新魏"/>
              </a:rPr>
              <a:t>6cm</a:t>
            </a:r>
            <a:r>
              <a:rPr b="0" lang="zh-CN" sz="3200" spc="-1" strike="noStrike">
                <a:solidFill>
                  <a:srgbClr val="046ca6"/>
                </a:solidFill>
                <a:latin typeface="华文新魏"/>
              </a:rPr>
              <a:t>大小，肿块站立时明显，平卧时缩小或消失。肿块有时可进入阴囊，质软，可回纳，外环口可容</a:t>
            </a:r>
            <a:r>
              <a:rPr b="0" lang="en-US" sz="3200" spc="-1" strike="noStrike">
                <a:solidFill>
                  <a:srgbClr val="046ca6"/>
                </a:solidFill>
                <a:latin typeface="华文新魏"/>
              </a:rPr>
              <a:t>2</a:t>
            </a:r>
            <a:r>
              <a:rPr b="0" lang="zh-CN" sz="3200" spc="-1" strike="noStrike">
                <a:solidFill>
                  <a:srgbClr val="046ca6"/>
                </a:solidFill>
                <a:latin typeface="华文新魏"/>
              </a:rPr>
              <a:t>指，压住内环口后，肿块不再突出。透光试验阴性。患者有吸烟史</a:t>
            </a:r>
            <a:r>
              <a:rPr b="0" lang="en-US" sz="3200" spc="-1" strike="noStrike">
                <a:solidFill>
                  <a:srgbClr val="046ca6"/>
                </a:solidFill>
                <a:latin typeface="华文新魏"/>
              </a:rPr>
              <a:t>40</a:t>
            </a:r>
            <a:r>
              <a:rPr b="0" lang="zh-CN" sz="3200" spc="-1" strike="noStrike">
                <a:solidFill>
                  <a:srgbClr val="046ca6"/>
                </a:solidFill>
                <a:latin typeface="华文新魏"/>
              </a:rPr>
              <a:t>余年。</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的内容有哪些？</a:t>
            </a: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斜疝</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易复性斜疝：除腹股沟区有肿块和偶有胀痛外，并无其他症状</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难复性斜疝：除胀痛稍重外，疝块不能完全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嵌顿性斜疝： 当腹内压骤增时，表现为肿块突然增大，并有明显疼痛，平卧或用手推送不能使肿块回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绞窄性斜疝：临床症状多较严重</a:t>
            </a:r>
            <a:endParaRPr b="0" lang="en-US" sz="24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腹股沟直疝</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直疝主要表现为患者站立时在腹股沟区内侧端、耻骨结节外上方出现一半球形肿块，不伴有疼痛或其他症状</a:t>
            </a:r>
            <a:endParaRPr b="0" lang="en-US" sz="24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腹股沟疝</a:t>
            </a:r>
            <a:endParaRPr b="0" lang="en-US" sz="3600" spc="-1" strike="noStrike">
              <a:solidFill>
                <a:srgbClr val="ffffff"/>
              </a:solidFill>
              <a:latin typeface="华文新魏"/>
            </a:endParaRPr>
          </a:p>
        </p:txBody>
      </p:sp>
      <p:graphicFrame>
        <p:nvGraphicFramePr>
          <p:cNvPr id="125" name=""/>
          <p:cNvGraphicFramePr/>
          <p:nvPr/>
        </p:nvGraphicFramePr>
        <p:xfrm>
          <a:off x="179280" y="1916280"/>
          <a:ext cx="8964720" cy="4520880"/>
        </p:xfrm>
        <a:graphic>
          <a:graphicData uri="http://schemas.openxmlformats.org/drawingml/2006/table">
            <a:tbl>
              <a:tblPr/>
              <a:tblGrid>
                <a:gridCol w="2616480"/>
                <a:gridCol w="3270240"/>
                <a:gridCol w="3078000"/>
              </a:tblGrid>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斜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Verdana"/>
                          <a:ea typeface="宋体"/>
                        </a:rPr>
                        <a:t>      </a:t>
                      </a:r>
                      <a:r>
                        <a:rPr b="0" lang="zh-CN" sz="2000" spc="-1" strike="noStrike">
                          <a:solidFill>
                            <a:srgbClr val="046ca6"/>
                          </a:solidFill>
                          <a:latin typeface="Verdana"/>
                          <a:ea typeface="宋体"/>
                        </a:rPr>
                        <a:t>直疝</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发病年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见于儿童及成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多见老年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突出途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腹股沟管，可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经直疝三角，不进阴囊</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862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外形</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椭圆或梨形，上部呈蒂柄状</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半球形，基底较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回纳疝块后压住深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不再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块仍可突出</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与疝囊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后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精索在疝囊前外方</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9133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与腹壁下动脉的关系</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外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疝囊颈在腹壁下动脉内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嵌顿机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多</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Verdana"/>
                          <a:ea typeface="宋体"/>
                        </a:rPr>
                        <a:t>较少</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Rectangle 1"/>
          <p:cNvSpPr/>
          <p:nvPr/>
        </p:nvSpPr>
        <p:spPr>
          <a:xfrm>
            <a:off x="3719520" y="1226160"/>
            <a:ext cx="17046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斜疝和直疝的临床特点</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5-24T14:43:09Z</dcterms:modified>
  <cp:revision>87</cp:revision>
  <dc:subject/>
  <dc:title>内科护理学</dc:title>
</cp:coreProperties>
</file>